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DD4-35C4-44EC-AB0B-E684190D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AC5-211E-43CF-B06B-2C44DCC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A8F-B9FF-4BD3-BCFF-3C308A76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389-1FDA-473E-AA3D-9F793176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0DD-E613-49FE-AC06-2624650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07A-E76B-426C-9498-F68FDF1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002-6F89-49E2-AE26-429873B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F05-08B6-485F-AC89-6F80BC1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A68-7A5D-436F-ABBE-E6C2B56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370-F5F9-43E5-BAA7-9B59BBB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8B3-510B-4C27-837B-3A6440A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87C-A30E-4B8F-A177-EE3857E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ABD-981D-4309-9428-5D33DB72CC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4C34-2F23-4E36-97B7-6CAACE762B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67160" y="457200"/>
            <a:ext cx="560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unctional Maths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69800" y="1500120"/>
            <a:ext cx="26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esign 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428920" y="2357280"/>
            <a:ext cx="4500360" cy="4284720"/>
            <a:chOff x="2428920" y="2357280"/>
            <a:chExt cx="4500360" cy="4284720"/>
          </a:xfrm>
        </p:grpSpPr>
        <p:sp>
          <p:nvSpPr>
            <p:cNvPr id="44" name="TextBox 6"/>
            <p:cNvSpPr/>
            <p:nvPr/>
          </p:nvSpPr>
          <p:spPr>
            <a:xfrm>
              <a:off x="3489840" y="2357280"/>
              <a:ext cx="203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Comic Sans MS"/>
                </a:rPr>
                <a:t>Far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7" descr="http://www.toonpool.com/user/173/files/the_farmer_250875.jpg"/>
            <p:cNvPicPr/>
            <p:nvPr/>
          </p:nvPicPr>
          <p:blipFill>
            <a:blip r:embed="rId1"/>
            <a:stretch/>
          </p:blipFill>
          <p:spPr>
            <a:xfrm>
              <a:off x="2428920" y="3428640"/>
              <a:ext cx="4500360" cy="32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ounded Rectangular Callout 9"/>
          <p:cNvSpPr/>
          <p:nvPr/>
        </p:nvSpPr>
        <p:spPr>
          <a:xfrm>
            <a:off x="0" y="3786120"/>
            <a:ext cx="2428920" cy="1214640"/>
          </a:xfrm>
          <a:prstGeom prst="wedgeRoundRectCallout">
            <a:avLst>
              <a:gd name="adj1" fmla="val 57888"/>
              <a:gd name="adj2" fmla="val 90648"/>
              <a:gd name="adj3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arning Objective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612360" y="844560"/>
            <a:ext cx="55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must grow at least three types of vege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71680" y="44974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you have goats and at least two other animals you will add an extra £100 to your total value from school vis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680" y="1643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 least a half of your chickens have to be free range to stop animal rights prote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60160" y="2786040"/>
            <a:ext cx="50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only have 150 lengths of fencing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45400" y="3643200"/>
            <a:ext cx="42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must include the farm buil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71680" y="564048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ly up to half of your animals are allowed to be used for meat so that they can repopu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0" y="571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ce you have designed your farm you need to glue it on to an A3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68000" y="5857920"/>
            <a:ext cx="83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ound the outside your should add details about your different farm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738440" y="1428840"/>
            <a:ext cx="5667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741760" y="571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r task is to design a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312120" y="1214280"/>
            <a:ext cx="8640360" cy="4869000"/>
            <a:chOff x="312120" y="1214280"/>
            <a:chExt cx="8640360" cy="4869000"/>
          </a:xfrm>
        </p:grpSpPr>
        <p:sp>
          <p:nvSpPr>
            <p:cNvPr id="49" name="TextBox 2"/>
            <p:cNvSpPr/>
            <p:nvPr/>
          </p:nvSpPr>
          <p:spPr>
            <a:xfrm>
              <a:off x="312120" y="5715000"/>
              <a:ext cx="86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ill be given a sheet of A4 square paper. This will be your farm yard spa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1643040" y="1214280"/>
              <a:ext cx="5857920" cy="422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0040" y="5643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will have to divide up the paper into the sections you want and add labels and a bit of col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489680" y="571680"/>
            <a:ext cx="61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you have animals then you will need to fence them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1428480" y="564372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can assume there is already a fence around the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857920" cy="4229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5921640" y="1571760"/>
            <a:ext cx="1139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773800" y="2786040"/>
            <a:ext cx="68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 flipH="1">
            <a:off x="5357880" y="1214280"/>
            <a:ext cx="1440" cy="121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2"/>
          <p:cNvSpPr/>
          <p:nvPr/>
        </p:nvSpPr>
        <p:spPr>
          <a:xfrm>
            <a:off x="5357880" y="2428920"/>
            <a:ext cx="2143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714240" y="428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is limit on the fencing you have available. You can only draw on 150 of the 1cm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571680" y="642960"/>
            <a:ext cx="8143560" cy="2208240"/>
            <a:chOff x="571680" y="642960"/>
            <a:chExt cx="8143560" cy="2208240"/>
          </a:xfrm>
        </p:grpSpPr>
        <p:sp>
          <p:nvSpPr>
            <p:cNvPr id="80" name="TextBox 1"/>
            <p:cNvSpPr/>
            <p:nvPr/>
          </p:nvSpPr>
          <p:spPr>
            <a:xfrm>
              <a:off x="2714760" y="1357200"/>
              <a:ext cx="60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Each square will have a value that it will add or take away from the farm depending on what you put on 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http://www.prime-targeting.com/wp-content/uploads/2009/04/pound.jpg"/>
            <p:cNvPicPr/>
            <p:nvPr/>
          </p:nvPicPr>
          <p:blipFill>
            <a:blip r:embed="rId1"/>
            <a:stretch/>
          </p:blipFill>
          <p:spPr>
            <a:xfrm>
              <a:off x="571680" y="642960"/>
              <a:ext cx="2214360" cy="220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9"/>
          <p:cNvGrpSpPr/>
          <p:nvPr/>
        </p:nvGrpSpPr>
        <p:grpSpPr>
          <a:xfrm>
            <a:off x="428760" y="2714760"/>
            <a:ext cx="7500960" cy="1904760"/>
            <a:chOff x="428760" y="2714760"/>
            <a:chExt cx="7500960" cy="1904760"/>
          </a:xfrm>
        </p:grpSpPr>
        <p:sp>
          <p:nvSpPr>
            <p:cNvPr id="83" name="TextBox 2"/>
            <p:cNvSpPr/>
            <p:nvPr/>
          </p:nvSpPr>
          <p:spPr>
            <a:xfrm>
              <a:off x="428760" y="3286080"/>
              <a:ext cx="51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For example, each square of carrots you grow will add £10 to your total valu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8" descr="http://www.businesspundit.com/wp-content/uploads/2009/03/carrots.jpg"/>
            <p:cNvPicPr/>
            <p:nvPr/>
          </p:nvPicPr>
          <p:blipFill>
            <a:blip r:embed="rId2"/>
            <a:stretch/>
          </p:blipFill>
          <p:spPr>
            <a:xfrm>
              <a:off x="5643720" y="2714760"/>
              <a:ext cx="2286000" cy="19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10"/>
          <p:cNvGrpSpPr/>
          <p:nvPr/>
        </p:nvGrpSpPr>
        <p:grpSpPr>
          <a:xfrm>
            <a:off x="571680" y="4357800"/>
            <a:ext cx="8198280" cy="2286000"/>
            <a:chOff x="571680" y="4357800"/>
            <a:chExt cx="8198280" cy="2286000"/>
          </a:xfrm>
        </p:grpSpPr>
        <p:sp>
          <p:nvSpPr>
            <p:cNvPr id="86" name="TextBox 3"/>
            <p:cNvSpPr/>
            <p:nvPr/>
          </p:nvSpPr>
          <p:spPr>
            <a:xfrm>
              <a:off x="3153240" y="535788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ant to maximise the total value of your far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0" descr="http://www.intelligentvending.co.uk/files/graph.jpg"/>
            <p:cNvPicPr/>
            <p:nvPr/>
          </p:nvPicPr>
          <p:blipFill>
            <a:blip r:embed="rId3"/>
            <a:stretch/>
          </p:blipFill>
          <p:spPr>
            <a:xfrm>
              <a:off x="571680" y="4357800"/>
              <a:ext cx="229392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857160" y="1643040"/>
            <a:ext cx="250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ou will be given this sheet that tells you how much value you get for each animal square or vegetable squa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Bent Arrow 3"/>
          <p:cNvSpPr/>
          <p:nvPr/>
        </p:nvSpPr>
        <p:spPr>
          <a:xfrm flipV="1">
            <a:off x="1928880" y="3429000"/>
            <a:ext cx="2286000" cy="13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4429080" y="928800"/>
            <a:ext cx="386712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428760" y="100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a few constraints when building a fa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218400" y="1857240"/>
            <a:ext cx="53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ill quickly go over a few of the mai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243680" y="0"/>
            <a:ext cx="4836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: Think about perimeter and area in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1857240" y="857160"/>
            <a:ext cx="6645240" cy="5639040"/>
            <a:chOff x="1857240" y="857160"/>
            <a:chExt cx="6645240" cy="5639040"/>
          </a:xfrm>
        </p:grpSpPr>
        <p:sp>
          <p:nvSpPr>
            <p:cNvPr id="96" name="TextBox 4"/>
            <p:cNvSpPr/>
            <p:nvPr/>
          </p:nvSpPr>
          <p:spPr>
            <a:xfrm>
              <a:off x="3214440" y="857160"/>
              <a:ext cx="52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You will be given a sheet with all the things you need to consider on 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1857240" y="2571480"/>
              <a:ext cx="5229360" cy="392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53:45Z</dcterms:created>
  <dc:creator>Hoskin</dc:creator>
  <dc:description/>
  <dc:language>en-US</dc:language>
  <cp:lastModifiedBy>Jean Gray</cp:lastModifiedBy>
  <dcterms:modified xsi:type="dcterms:W3CDTF">2012-08-21T00:50:29Z</dcterms:modified>
  <cp:revision>24</cp:revision>
  <dc:subject/>
  <dc:title>Slide 1</dc:title>
</cp:coreProperties>
</file>